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EEE2-4F1E-4B66-B8AD-624D7064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DCE-6854-4988-9EE8-9C8D7126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7E25-35CC-498A-9AA3-1A850D79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558/flashcards/183558/jpg/picture213293237136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B755-F735-4368-83AD-03B9102E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6CF6-CA24-4D74-A772-93FA0334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95A-832D-4CB6-BDA1-D7E5AC63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F03-15E1-444B-A7ED-6228834E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4E04-444C-4B6D-BC75-0AAE8017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tiagingultra.com/telomeresuppor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icaldisposables.us/telomerase-enzyme-production-telomere-supplement-p/tm-25-6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530-5DE8-4D72-8238-2F303BA5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: http://www.enrichgifts.com/Telomerase-Enzyme-p/telezyme_autoship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trients that support telomere health” (not telomer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2C8-DC1D-40AD-92FB-A6C8D3EE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6DD6-14C5-4D16-86F2-6F63AA1F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5287-D988-47FA-B708-9D7ED30B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E40F-9521-46FC-B5BF-9AEBECBE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tru.ca/dnelson/courses/biol335/335notes/1nastructure/nastruct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A52-2C09-4171-AEC7-A0EE1D63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imation: https://www.youtube.com/watch?v=xl8ply4A7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04E-76B3-4476-A036-59740772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4A5-2CF7-4EDC-9791-F0782EE0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4CC5-F2B3-4E30-B72C-BE6A698F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156D-ED5E-48E4-A2F3-ECB7659F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42C-D5CB-413B-B6A7-C3BC5DB6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B96-D838-4CFC-AE82-B7DF686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B4-0157-4D5B-B3CE-7B5BDF1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54D-5AA9-44CA-A06B-12D21E94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10D-F0AF-453C-994D-00D6694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AA1-1D83-4791-AE3B-B34FC54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171-2511-4E65-BFDA-54DCA73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5E4-6DD3-4A48-8B4B-971BAB2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74A-49F8-474B-B21D-C27470E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747-529E-48AD-B876-B595D67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555-7831-45FD-BE3C-1F3797C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D6F-EF0D-410A-B5BB-E14BD55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D829-287E-4D60-8507-BF81CE61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elezyme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l8ply4A7n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picture21329323713661.jpg"/>
          <p:cNvPicPr/>
          <p:nvPr/>
        </p:nvPicPr>
        <p:blipFill>
          <a:blip r:embed="rId1"/>
          <a:srcRect l="-24010" t="0" r="-24010" b="0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lly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ies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anti-aging-for-skin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uppleme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Imortaliumbannerbanner.jpg"/>
          <p:cNvPicPr/>
          <p:nvPr/>
        </p:nvPicPr>
        <p:blipFill>
          <a:blip r:embed="rId1"/>
          <a:srcRect l="0" t="-18144" r="0" b="-18144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TM-25-60-2.jpg"/>
          <p:cNvPicPr/>
          <p:nvPr/>
        </p:nvPicPr>
        <p:blipFill>
          <a:blip r:embed="rId1"/>
          <a:srcRect l="-36763" t="0" r="-36763" b="0"/>
          <a:stretch/>
        </p:blipFill>
        <p:spPr>
          <a:xfrm>
            <a:off x="684360" y="765000"/>
            <a:ext cx="77738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zy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3" descr="telezyme-label.jpg"/>
          <p:cNvPicPr/>
          <p:nvPr/>
        </p:nvPicPr>
        <p:blipFill>
          <a:blip r:embed="rId2"/>
          <a:srcRect l="0" t="-19642" r="0" b="-1964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in one cell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rom1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2" descr="fig20.gif"/>
          <p:cNvPicPr/>
          <p:nvPr/>
        </p:nvPicPr>
        <p:blipFill>
          <a:blip r:embed="rId1"/>
          <a:srcRect l="0" t="-9752" r="0" b="-9752"/>
          <a:stretch/>
        </p:blipFill>
        <p:spPr>
          <a:xfrm>
            <a:off x="4427640" y="1700280"/>
            <a:ext cx="439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romosome_structure"/>
          <p:cNvPicPr/>
          <p:nvPr/>
        </p:nvPicPr>
        <p:blipFill>
          <a:blip r:embed="rId2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elomere_image-prv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7-03-24T15:20:11Z</dcterms:modified>
  <cp:revision>93</cp:revision>
  <dc:subject/>
  <dc:title>Molecular Genetics</dc:title>
</cp:coreProperties>
</file>